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F74A7-AB52-4103-9154-B59F4E007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1D29C-A051-42BB-86C6-56B581A1C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79864-A0FB-4872-96BD-199EA3A53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F01F1-2B5A-4477-A3FF-C866ACE75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7CF34-28F6-4024-9DF4-AEDCFE005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920FB-706F-4DD2-AD73-61EDD42C4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ED577-0731-4DA1-B6B7-6B3544132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BF3E6-B8DA-43AA-A4BB-73DB508E6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66AC4-2DF5-40A5-81B9-DA8554301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66C93-2134-4771-905B-FB19A2B1D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A426B-D2D1-44BA-A3B5-938448E53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8ED6A-4CA5-4879-A632-ABFFC8F40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885A5-2AB7-4520-B85D-A1F700AFFA12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380520" y="4952880"/>
            <a:ext cx="8533080" cy="13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용민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수경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979640" y="1197000"/>
            <a:ext cx="5040360" cy="178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위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지하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호선 백석역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7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번출구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도보로 약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아침에 지하철역 앞에 셔틀다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692360" y="2924280"/>
            <a:ext cx="547200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남 – 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머리 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장 단정하게 할 것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!!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토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매주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5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요일마다 일주일씩 구입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당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2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–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하루 정해서 병동에 내려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–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입원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외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동안 하루 정해서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치료실마다 하나씩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report 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치료실마다 하나씩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+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논문번역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ase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발표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024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질문 많음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대부분 용인대 출신 선생님들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환자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ransfer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해야 함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modality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루한 편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선생님 한 분과 같이 풀에 들어가서 관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성인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로 나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장점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부분의 전문적인 치료를 볼 수 있다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환자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est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간 주어짐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설 좋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밥 한식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양식 둘다 맛없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리적으로 멀리 위치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고시원 잡은 학생들 많았음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Staff</cp:lastModifiedBy>
  <dcterms:modified xsi:type="dcterms:W3CDTF">2009-04-11T08:29:06Z</dcterms:modified>
  <cp:revision>10</cp:revision>
  <dc:subject/>
  <dc:title>영남대학교의료원</dc:title>
</cp:coreProperties>
</file>